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3.jpeg" ContentType="image/jpeg"/>
  <Override PartName="/ppt/media/image2.jpeg" ContentType="image/jpeg"/>
  <Override PartName="/ppt/media/image25.wmf" ContentType="image/x-wmf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5.wmf" ContentType="image/x-wmf"/>
  <Override PartName="/ppt/media/image1.jpeg" ContentType="image/jpeg"/>
  <Override PartName="/ppt/media/image20.jpeg" ContentType="image/jpeg"/>
  <Override PartName="/ppt/media/image17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29B-43B8-4045-A339-00B2E54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2D3-6958-49F1-B729-74EBBC0C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6EB-F06B-4709-A349-78276EEB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54D-0900-42D9-B709-1E191BA7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97A9-4E57-4992-8E66-78BDA161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252-8790-4264-9CF0-66CDFF1D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DDFA-A82B-4602-88D0-459E4B03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B3CA-C3B2-4C26-BF10-54E4D70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4AA6-8319-4A85-BECF-E6E259B6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8F97-7198-43BD-B6FA-CC7FB16F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BFE0-D440-4CF4-99C0-68BF21B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A71-8805-4EFA-B21A-4A44B57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879F-DEC9-4B15-A231-EB4687A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F12-4C72-4F97-BE98-DA6EFAB1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76A3-CCBD-49E4-A26D-B368E74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622-B156-46AD-B6A9-B9F4DEE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0379-0A87-4848-854B-FFEDE784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7FD-9020-423E-B40B-1BCF2C25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EF1-7802-4684-8C02-3C79B62D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B69-CDA4-4D2E-BF5C-F6531C58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361-04F2-4A7A-9020-6C2440C7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921-B402-4D24-8F58-47DD74D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58C-92B2-4178-BF78-CC8C0B4E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796-B21F-40E2-94B6-CB69E5F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44D-32D4-43A1-AA85-81C7D6D1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79BB-196D-4842-84D5-4F16789FF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periorqualityfood.com/prod_lamb0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Aminohippuric_acid.png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628280"/>
            <a:ext cx="735804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Физиологија бубрега и телесних течности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питивања функције бубр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332000" y="33336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 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на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Крагујевц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364000" y="5805360"/>
            <a:ext cx="3353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7260840" y="6237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Б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KIDNEY W jpg"/>
          <p:cNvPicPr/>
          <p:nvPr/>
        </p:nvPicPr>
        <p:blipFill>
          <a:blip r:embed="rId1"/>
          <a:stretch/>
        </p:blipFill>
        <p:spPr>
          <a:xfrm>
            <a:off x="0" y="4581360"/>
            <a:ext cx="20718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9840" y="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Бубрежни механизми за излучивање концентрисане мокраће -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противструјни механиза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(одвија се у медули бубрега уз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учешће јукстамедуларних нефрона и 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</a:rPr>
              <a:t>vasa recta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енлеове петљ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струјни умножив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асивна дифузија у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е из сабирних цеви у интерсти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. Повећање пропустљивости за воду епителних ћелија завршног дисталног тубула, кортикалних и медуларних сабирних каналића под дејством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3. Задржавање вишка електролита у медуларном интерстицијум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отивструјни измењивачки механизам у </a:t>
            </a:r>
            <a:r>
              <a:rPr b="1" i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vasa rect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обавезн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нев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премина мок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5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итр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 транспорт јона из дебел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гмен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ходног крак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нлеове петљ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илуционо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гмент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талног тубул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уларн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у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максималног концентрацијског градијента између тубула и бубрежне медуле од 200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Osm/L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348320" cy="4292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8290440" y="4221000"/>
            <a:ext cx="811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→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дифундује из нисходног крака у интерстицију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е медул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лтрат се концентруј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аском воде у бубрежни  интерстицијум, путујући ка врху Хенлеове петљ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840800" cy="4581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8290080" y="4365720"/>
            <a:ext cx="81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сходном краку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нлеове петље (који је непропустан за воду)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о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у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убул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нтерстицијум (понавља се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 више пу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то доводи до стварања хиперосмотске медуле док се тубулска течност дилуира.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7594560" cy="4437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8290080" y="4365720"/>
            <a:ext cx="81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5"/>
          <p:cNvSpPr/>
          <p:nvPr/>
        </p:nvSpPr>
        <p:spPr>
          <a:xfrm>
            <a:off x="179280" y="189000"/>
            <a:ext cx="87487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 медуларног интерстицијума – противструјни умножив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ј процес ће постепено заробити растворене супстанце у медули и умножити концентрацијски градијент који је успостављен активним испумпавањем јона из дебелог асцендентног крака Хенлеове петље, да би коначно подигао осмоларност</a:t>
            </a: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ерстицијумске течности на 1200 до 1400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sm/L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73486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64000" y="2420640"/>
            <a:ext cx="378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Механизам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већања концентрације уре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ј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окраћи и медуларном интерстициј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Уреја доприноси (</a:t>
            </a: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40%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 хиперосмоларности бубрежног медуларног интерстицијума и самим тим концентрисању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341360"/>
            <a:ext cx="5348160" cy="551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717120" y="333360"/>
            <a:ext cx="74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додатно увећање осмола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уларног интерстиц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3280" y="765000"/>
            <a:ext cx="45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овећање пропустљивости за воду епителних ћелија завршног дисталног тубула, кортикалних и медуларних сабирних каналића под дејством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нтидиуретског хормона (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H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 - вазопреси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ри високим концентрацијам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осмоларност урина с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ото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изједначава са осмоларношћу интерстицијума медуле ~ 1200 mOsm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907920"/>
            <a:ext cx="4716360" cy="504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547640" y="189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ећање пропустљивости за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179600" cy="4824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755640" y="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за задржавање вишка електрол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медуларном интерстицијуму (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ивструј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змењивачки механиза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 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sa recta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72000" y="1181160"/>
            <a:ext cx="4572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блика 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ви, веома су пропустни, имају мали проток крви (1-2% укупног протока крви кроз бубрег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оја протиче кроз нисходни крак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е хиперосмоларна због изласка воде у хиперосмоларни интерстицијум и уласка јона из медуларног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а која протиче кроз усходни крак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осмоларност због изласка јона у хипоосмоларни интерстицијум и уласка воде из интерсти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 коју одводе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јако мало јона који остају концентрисани у медуларном интерстициј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716360" y="1268280"/>
            <a:ext cx="40672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реапсорпцију електролита која почиње у дебелом сегменту асцендентног крака Хенл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ве петље не прати реапсорпција воде (филтрат се дилуи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како у крви не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излучује се разређена мокра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250920" y="404640"/>
            <a:ext cx="88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брежни механизам за излучивање </a:t>
            </a:r>
            <a:r>
              <a:rPr b="1" lang="sr-Latn-CS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ређене</a:t>
            </a:r>
            <a:r>
              <a:rPr b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окраћ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86200" y="304920"/>
            <a:ext cx="338616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рин (мокраћ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71600" y="762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гломерулске филтрације код одрасле особе у нормалним физиолошким условима износ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 литара на да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филтрирања излучи се 0,5-2 l  коначног урина/да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 (мокраћа)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стра, жућкаста течност, ароматичног мириса. Мирис могу да мењају патолошки састојци (кетонска тела, бактерије..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варира од светло жуте до тамно жуте зависно од хидрираности организма, уноса медикамената... Уколико је присутно замућење, може потицати од соли, ћелијских елемената, протеина, масти или бактер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ури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их особа варир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зноси од 1.001-1.040, мада је најчешће измеђ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02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 здраве особе садржи мало леукоцита, епителних ћелија и беланчев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реакциј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м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тој исхрани, је углавном слабо кисел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 6, али може варирати од 4.8 до 7.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305480" cy="478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ТВАРАЊЕ УРИНА У БУБРЕЗИМА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ЛОГА БУБРЕГА У ХОМЕОСТ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Click to show &quot;kidneys&quot; result 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571840" y="836640"/>
            <a:ext cx="51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функциј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438280" y="1600200"/>
            <a:ext cx="6324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цени вредности функционалног стања бубрега користе се методе испитивања које укључ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средни преглед мокр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ћ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способности бубрега за стварање концентроване и разређене мокра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клиренса појединих супстан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максималног тубулског транспорта, оптерећења бубре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бубрега у регулацији промета натријум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е излучивања јона водоник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 протеинур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340000" y="836640"/>
            <a:ext cx="630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им прегледом мокраће одређују се њена количина и физичко-хемијске особин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340000" y="2637000"/>
            <a:ext cx="6553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ба опте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 од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 се прибл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редност гломерулске филтрациј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ске реапсорп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корис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УЦИОН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ОНА ПРОБ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Volhar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833400" y="476280"/>
            <a:ext cx="8310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УЦИОНОМ ПРОБ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испитује способност бубрега да елиминише већу количину течности којом се организам оптерећ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 из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аслој особи, која се испитује, даје се да за кратко време попије 1000-1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или ча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но пре узимања течности испразни се мокраћна беш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 особа треба да уринира сваких 1/2 сата до с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аћа се прикупља, мери се њена количина и специфична теж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дравих особа сва течност треба да се излучи за 3-4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сваког појединачног узорка не треба да пређе 1.002-1.00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547640" y="549360"/>
            <a:ext cx="734544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ОНА ПР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тина ове пробе се састоји у томе да се бубрези оптерете уношењем у организам хране без те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вака два часа прикупља се мокраћ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ваком узорку се мери њена количина и специфична те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здравих особа укупна количина излучене мокраће за 24 сата износи  350-7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а тежина у појединим узорцима треба да буде 1.030 и ви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нижа вредност не би требало да пада испод 1.0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414440" y="836640"/>
            <a:ext cx="772956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УБРЕЖНИ КЛИРЕН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зина «чишћења» различитих супстанци из плазме представља користан начин за процену функционалног стања бубрега, односно ефикасности којом бубрези излучују разноврс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брежни клиренс се може употребити, како за одређивање брзине проток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в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з бубреге, тако и за процену основних улога бубрега: гломерулске филтрације, тубулске реапсорпције и тубулске секре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3378240" y="27813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8240" y="27813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8724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Бубрежни клиренс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cl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истити) је: запремина плазме која се потпуно очисти од неке супстанце бубрезима у јединици вре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Клиренс плазм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а неку супстанцу се израчунава по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форму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492360" y="3500280"/>
          <a:ext cx="304812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500280"/>
                    <a:ext cx="30481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2268360" y="5373720"/>
            <a:ext cx="65883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ml/min)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(mg/ml)- концентрација супстанце у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 (ml/min)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рзин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излуч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вањ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мокраћ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(mg/ml)- концентрација супстанце у плазми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3708720" cy="55436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571680"/>
            <a:ext cx="867564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бубрежне обраде четири хипотетичк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79640" y="692280"/>
            <a:ext cx="352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која се само филтрира (нема реапсорпције ни секреције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ул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делимично) реапсорб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потпуно) реапсорб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упстанца која се филтрира и (потпуно) секретуј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P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332000" y="333360"/>
            <a:ext cx="75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азличите супстанце имају различите клиренс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ер бубрези те материје екскретују различитим процес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611280" y="1773360"/>
            <a:ext cx="814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амо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ломерулском филтр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F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инулин -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i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ломерулском филтра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GF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тубулском реапсорп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R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ће имати клиренс мањи од инули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Ci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уреја,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u/Cin = 0.3-0.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г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ломерулском филтрацијом и тубулском секре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S), па ће имати клиренс већи од инулина (Cin) (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ример: креатинин,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Ckr/Cin = 1.15-1.2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58160" cy="10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ДРЕЂИВАЊЕ ВЕЛИЧИНЕ ГЛОМЕРУЛ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пстанца која се излучу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једино гломерулском филтрацијом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а у тубулима се нити реапсорбује нити секретује може да послужи за тачно мерењ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ЕЛИЧИНЕ ГЛОМЕРУЛСКЕ ФИЛТРАЦИЈ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ед тога она мора, као и друге супстанце чији се клиренси одређују, да испуни и следеће усло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није токсич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не везује за протеине плазм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не метаболише у бубрезима и другим ткивим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не утиче на функцију бубрег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се њена концентрација може прецизно мерити у плазми и у ур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д човека ове услове испуњавају: инулин, манитол,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Times New Roman"/>
              </a:rPr>
              <a:t>5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r, EDT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натријум-тиосулфат, али је инулин најпогодн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TA</a:t>
            </a:r>
            <a:r>
              <a:rPr b="1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eneDiamineTetraAcetic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znate-li-šta-je-inulin"/>
          <p:cNvPicPr/>
          <p:nvPr/>
        </p:nvPicPr>
        <p:blipFill>
          <a:blip r:embed="rId1"/>
          <a:stretch/>
        </p:blipFill>
        <p:spPr>
          <a:xfrm>
            <a:off x="990720" y="152280"/>
            <a:ext cx="2165400" cy="2124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304920" y="234432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улин је полисахарид молекулске масе око 5200 који се не производи у телу, и у различитим количинама је присутан у преко 36000 биљних врста. Значајне количине инулина налазе се у црном и белом луку, маслачку, цикорији, јерусалимској артичок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улин има мању калоријску вредност од осталих угљених хидрата (свега 1.5  kCal/g). Разлог томе лежи у његовој структури коју дигестивни ензими нису у могућности да  сваре. Због тога, инулин пролази кроз уста, желудац и танко црево и непромењен доспева у дебело црево где подлеже потпуној ферментацији од стране селекционираних  бактерија. Инулин је пребиотик и његова несварљива влакна „добре“ бактерије, односно пробиотици, користе као храну и има функцију у очувању здраве и уравнотежене цревне микрофлоре. Осим за здравље дигестивног система, инулин побољшава минерални садржај костију и густину коштане масе и омета метаболички процес стварања масноће у организ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846040" y="765000"/>
            <a:ext cx="25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Н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211640" y="457200"/>
            <a:ext cx="462744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злучивање највеће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ела крајњих продуката метаб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ација запремине и састава телесних течности (осмолалности телесних течности и концентрације електроли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улација ацидо-базне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гулација артеријског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креција хормона, метаболизам и екскре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ликоне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Kidneys"/>
          <p:cNvPicPr/>
          <p:nvPr/>
        </p:nvPicPr>
        <p:blipFill>
          <a:blip r:embed="rId1"/>
          <a:stretch/>
        </p:blipFill>
        <p:spPr>
          <a:xfrm>
            <a:off x="0" y="2276640"/>
            <a:ext cx="4067280" cy="3638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179280" y="981000"/>
            <a:ext cx="4103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је бубрег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724640" cy="51051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7318080" y="55627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280" y="1676520"/>
            <a:ext cx="393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улин се даје пацијенту интравенски и обзиром да се излучује само гломерулском филтрацијом може да послужи за тачно мерење ВЕЛИЧИНЕ ГЛОМЕРУЛСКЕ ФИЛТРАЦИЈ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304920" y="4038480"/>
          <a:ext cx="3276360" cy="11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038480"/>
                    <a:ext cx="32763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7"/>
          <p:cNvSpPr/>
          <p:nvPr/>
        </p:nvSpPr>
        <p:spPr>
          <a:xfrm>
            <a:off x="2411280" y="5516640"/>
            <a:ext cx="4800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Uin (mg/ml)- концентрација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нулин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у мокраћ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V (ml/min) –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брзина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излуч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вањ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мокраћ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Pin (mg/ml)- концентрација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инулина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 у плазми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VGF (ml/min) -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величине гломерулске филтрациј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in (ml/min) – клиренс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ину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80160" y="4572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ЛИРЕНС 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Н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44320" y="907920"/>
            <a:ext cx="333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261520" y="63324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ЛИРЕНС 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НУ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066680" y="13716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80880" y="212256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е вредности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мушкарц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♂ 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жене 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1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/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е вредности клиренса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огле упоређивати, сви клиренси се обрачунавају на телесну површину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0920" y="5805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лесна површина се израчунава из посебних таблица које се називају номог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900000" y="201924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у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није једина супстанца која се може користити за одређ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величине гломерулск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илтр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клиничко одређивање најчешће се употребљав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реатини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 Како је креатинин споредан производ метаболизма скелетног мишића, присутан је у плазми у релативно константној концентрацији и не захтева интравенску инфузију пацијен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еатинин се излучује гломерулском филтрацијом и тубулском секрециј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па је његов клиренс, када се одређује егзактном методом, з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о 20% већи од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i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служи з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ближ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одређи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 величине гломерулске филтр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347200" y="5572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ЛИРЕНС  КРЕАТИ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371600" y="121932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ОДРЕЂИВАЊЕ ВЕЛИЧИНЕ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ОМЕРУЛСКЕ ФИЛТР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80880" y="533520"/>
            <a:ext cx="85345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андардне колориметријске методе за одређивање концентрације креатинина у плазми мере и друге хромогене материје у њој, па ј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змерена вредност концентрације креатинина у плазми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kr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већа него стварна концентрација креатинина у плазм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што смањује вредност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k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рачунатог према општој једначини за клирен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0"/>
          <p:cNvGraphicFramePr/>
          <p:nvPr/>
        </p:nvGraphicFramePr>
        <p:xfrm>
          <a:off x="900000" y="2349360"/>
          <a:ext cx="213840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21384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"/>
          <p:cNvSpPr/>
          <p:nvPr/>
        </p:nvSpPr>
        <p:spPr>
          <a:xfrm>
            <a:off x="3132000" y="2565360"/>
            <a:ext cx="5334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(ml/min)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краћ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окраћ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плазм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еатин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4191120"/>
            <a:ext cx="8229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тим, креатинин није савршен маркер за величину гломерулске филтрације зато што се у малој количини секретује тубулима, тако да ћ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оличина креатинина излученог мокраћом благо премашити филтрирану количин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, те случајно, ове две грешке теже да се међусобно пониште. Сходно томе клиренс креатинина обезбеђује поуздано утврђивање величине гломерулске филтрациј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835560" y="533520"/>
            <a:ext cx="732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Клиренс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парааминохипурне кисел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H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23623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hippuric acid или para-aminohippuric acid (PAH) ј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урне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д глици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-аминобензојеве кисел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20px-Aminohippuric_ac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657600"/>
            <a:ext cx="3353040" cy="1424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9" name="Rectangle 5"/>
          <p:cNvSpPr/>
          <p:nvPr/>
        </p:nvSpPr>
        <p:spPr>
          <a:xfrm>
            <a:off x="1332000" y="5516640"/>
            <a:ext cx="78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Одређивање к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лиренс</a:t>
            </a:r>
            <a:r>
              <a:rPr b="0" lang="sr-CS" sz="20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парааминохипурне киселине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AH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с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потребља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као мера протока плазме кроз бубреге (око 62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519800" y="4418640"/>
            <a:ext cx="35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[(4-Aminobenzoyl)amino]acetic ac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143000" y="175248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ДРЕЂИВАЊЕ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ПРОТОКА ПЛАЗМЕ И КРВИ КРОЗ БУБРЕ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859280" y="1341360"/>
            <a:ext cx="41148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би клиренс неке супстанце могао бити мера бубрежног протока плазм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, а тиме и крви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 , потребно је да се та супстанц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отпун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уклони из плазме док крв пролази кроз бубреге, и да се појави у ур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ве услове испуњав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H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убрези “очисте” плазму од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H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ломерулском филтрацијом (20%) и тубулском секрецијом (80%)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0" y="692280"/>
            <a:ext cx="4343400" cy="54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ђутим,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ије мера укупног, већ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фективног реналног протока плазме (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. Ово је због тога што око 10% крви која доспева у бубреге не учествује у гломерулској филтрацији и тубулској реапсорпцији и секрецији, јер снабдева бубрежну капсулу, пелвис, периренално масно ткиво, па зато 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екстракција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(Е</a:t>
            </a:r>
            <a:r>
              <a:rPr b="0" lang="sr-Latn-CS" sz="20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PAH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није 100% већ 87-92%.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бог тога је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ERPF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ли из њега, просечне вредности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ERP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хематокрита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Hct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, можемо израчунати укупан бубрежни проток плазме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бубрежни проток крви 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58964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763640" y="6032520"/>
            <a:ext cx="722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За клиничке потребе много је важније одређивање ефективног реналног протока крви (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ERBF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), који је у нормалним бубрезима мера кортикалног крвот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838080"/>
          <a:ext cx="2361960" cy="11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236196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4"/>
          <p:cNvGraphicFramePr/>
          <p:nvPr/>
        </p:nvGraphicFramePr>
        <p:xfrm>
          <a:off x="304920" y="2133720"/>
          <a:ext cx="236196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133720"/>
                    <a:ext cx="23619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5"/>
          <p:cNvSpPr/>
          <p:nvPr/>
        </p:nvSpPr>
        <p:spPr>
          <a:xfrm>
            <a:off x="2895480" y="914400"/>
            <a:ext cx="5334120" cy="11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(ml/min)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ња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краћ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PAH у мокраћ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g/ml)- концентрација PAH у плазм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6"/>
          <p:cNvGraphicFramePr/>
          <p:nvPr/>
        </p:nvGraphicFramePr>
        <p:xfrm>
          <a:off x="304920" y="3505320"/>
          <a:ext cx="236196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505320"/>
                    <a:ext cx="2361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7"/>
          <p:cNvSpPr/>
          <p:nvPr/>
        </p:nvSpPr>
        <p:spPr>
          <a:xfrm>
            <a:off x="2895480" y="2209680"/>
            <a:ext cx="53341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P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пла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(ml/min) – клиренс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1600" spc="-1" strike="noStrike" baseline="-25000">
                <a:solidFill>
                  <a:srgbClr val="000000"/>
                </a:solidFill>
                <a:latin typeface="Times New Roman"/>
              </a:rPr>
              <a:t>PAH</a:t>
            </a:r>
            <a:r>
              <a:rPr b="1" lang="sr-C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кстракциј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916360" y="3645000"/>
            <a:ext cx="533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B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кр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PF (ml/min) –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ренални проток пла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Hct -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хематокр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50920" y="260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ступак израчунавања бубрежног протока плазме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PF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 крви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609200" y="4653000"/>
            <a:ext cx="70052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Нормалне вредности бубрежног протока с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убрежног протока плазме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RPF)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– 625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бубрежног протока крви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(RBF)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– 1200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4000" y="549360"/>
            <a:ext cx="531504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нкционал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анатомија буб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24360" y="1916280"/>
            <a:ext cx="500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зи су парни орг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же на задњем зиду абдомена ван перитонеалне 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брег одраслог човека тежи око 15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Грађа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е пирам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0" y="3430440"/>
            <a:ext cx="3708360" cy="3427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ancreas and kidneys"/>
          <p:cNvPicPr/>
          <p:nvPr/>
        </p:nvPicPr>
        <p:blipFill>
          <a:blip r:embed="rId2"/>
          <a:stretch/>
        </p:blipFill>
        <p:spPr>
          <a:xfrm>
            <a:off x="0" y="0"/>
            <a:ext cx="3708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067280" y="260280"/>
            <a:ext cx="475272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ФУНКЦИОНАЛНА АНАТОМИЈА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нефрон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Нефро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– основна функционалана јединица бубрега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стоји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1 000 000 нефрона у једном бубрег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н 40. год., број функционалних нефрона се смањује за око 10% сваких 10 го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Делови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Гломеру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роз који се филтрира велика количина течности из крви)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Тубулски систе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у којем се филтрирана течност претвара у мокраћ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16000" y="380880"/>
            <a:ext cx="44276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ФУНКЦИОНАЛНА АНАТОМИЈ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аскулариз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ток крви кроз оба бубрега износи нормално 21 % минутног волумена срца, или око 1200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l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у минути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и крвоток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а ар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арна арт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ртериј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u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уларна артериo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ферентна артериол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омеруларни капилари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ферентна артериол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еритубуларна мреж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илар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улар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н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u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терлобар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убрежна 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427640" y="260280"/>
            <a:ext cx="446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Times New Roman"/>
              </a:rPr>
              <a:t>Гломерул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man-овој капс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ферентна артериола (крв улази у гломеру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ферентна артериола (крв излази из гломеру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0000"/>
                </a:solidFill>
                <a:latin typeface="Times New Roman"/>
              </a:rPr>
              <a:t>Тубулски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проксимални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Хенл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ва петљ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а. десцендентни (танки) се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б. асцендентни (танки) сег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. асцендентни (дебели) сегмент (на завр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етк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одмах до проксималног дела дисталног тубу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 се налази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</a:rPr>
              <a:t>macula densa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дистални 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бирни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у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кортикални сабирни канал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медуларни сабирни канал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4355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88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7640" y="333000"/>
            <a:ext cx="3887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Врсте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кортикални нефро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70-80%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имају кратке Хенлеове петље које продиру само делимично у медул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ункција у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варањ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јукстамедуларни нефро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20-30%), имају дуге Хенлеове петље које се про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у дубоко у медулу –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ункција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sr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тварању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 и 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концентрисањ</a:t>
            </a:r>
            <a:r>
              <a:rPr b="1" lang="sr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sr-Latn-CS" sz="2000" spc="-1" strike="noStrike" u="sng">
                <a:solidFill>
                  <a:srgbClr val="ff0000"/>
                </a:solidFill>
                <a:uFillTx/>
                <a:latin typeface="Times New Roman"/>
              </a:rPr>
              <a:t>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арактерист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дугачки танки сегме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Хен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ве 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a rect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специјализовани перитубулски капилари који се сп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тају дубок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у медулу прат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и Хенлеову петљ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3279600" y="65833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788000" y="981000"/>
            <a:ext cx="396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кскрец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злуч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мокраће у бубрежном систем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. филтрација (гломер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. реапсорп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. секре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602136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Уринарна е</a:t>
            </a:r>
            <a:r>
              <a:rPr b="0" lang="sr-Latn-CS" sz="2600" spc="-1" strike="noStrike" u="sng">
                <a:solidFill>
                  <a:srgbClr val="ff0000"/>
                </a:solidFill>
                <a:uFillTx/>
                <a:latin typeface="Times New Roman"/>
              </a:rPr>
              <a:t>кскреција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754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6880" y="5589720"/>
            <a:ext cx="157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(Guyton &amp; Hall 20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5257800" y="40464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варање у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4:24:18Z</dcterms:created>
  <dc:creator>Maja</dc:creator>
  <dc:description/>
  <dc:language>en-US</dc:language>
  <cp:lastModifiedBy>korisnik</cp:lastModifiedBy>
  <dcterms:modified xsi:type="dcterms:W3CDTF">2016-11-02T13:46:40Z</dcterms:modified>
  <cp:revision>168</cp:revision>
  <dc:subject/>
  <dc:title>Физиологија бубрега  Испитивања функције бубрега</dc:title>
</cp:coreProperties>
</file>